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1"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9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4"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5"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45A5E-D704-4A63-90B2-6DD55DE61E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C2D6B-E954-4A62-9D3B-3532772A34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8F61E-0015-4345-880C-E5902AAD53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3BA9B-B79C-48FB-8D4E-317EE54B2E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423B3-872C-40D8-A9B5-CB114475D0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6D72E-4A75-4DBB-BAD9-5BC418814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95D71-298E-407A-8520-8B3AE6073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2EBEA8-3150-4A3D-AF45-EC2482044C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3AEF96-BC88-4FB8-BB1F-E5F9794088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F1FB14-A1AF-410A-ABCE-1B0DF80AAF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79184D-A2A1-43C3-9DCB-BDD1C0403D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C582B4-C85A-47ED-8CDF-3CB830AECB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CEF503-2309-4D87-8F87-F07C5ECA94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681B89-10B4-41BE-803D-A68B2A8CB6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5A628F-E80C-45E7-B074-B9FE68F478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7BA1EC-F80C-4E8D-9E3C-93805BF8EF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C5C632D-FB80-4DC0-B70E-486A567043F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D05AE-E27F-4C4B-A86C-52F85BBE1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FB1E34-9E30-41FE-A21E-06481261F61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DCE3148-B8CE-4FE8-B3DA-3DF0FA7E746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0C8DA4A-DC28-4B89-8E0D-DC2A8EF3B32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5F3D2FD-D072-4CCD-806B-E267290304E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7B0EEC3-7C91-4415-9B07-D78D6D8C8D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334D05-8E40-4E61-AA74-333BED6FC8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2BAB02-6FD6-4454-A220-2648C23959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D77F27-575A-488F-91A2-9C61748DE0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2BB568-52D0-4713-8721-E7074C32CED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0651ADC-A88B-4779-9CD4-0F7DE9E905D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0B844-4556-4C54-91E2-3FAAF56DD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6E9C1EE-FFDB-44D8-BFFD-9353F5309AA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D6866FB-9E7F-47AF-883A-335A60AD1221}"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B97DC68-5858-4841-A9F0-6BDF17E9669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5F8A5A6-D524-459E-8228-0D1707608E8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ED1C1AE-8F5C-4C53-9416-668573862EC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FEF9E8C-E590-4EEA-95BE-ABBA1CD9232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3A78C40-11BA-4683-AD6C-3670D166550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C0A65EB-A59D-42C5-9F36-D12F111C943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7CF4857-B669-4E38-9272-8A2F68803D7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066412E-7D5B-4A7D-89E8-F3782C7BAC7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FE2122-AC6D-4B04-B68B-399A7C05ED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FC92003-C013-43D5-90C0-CFD85AA6341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8D66222D-0640-482E-ACFB-CBFEDE725AD4}"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6E21214-F70F-4E63-8492-352E98ADADF6}"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562A73D-8F47-42E9-8963-10E49957555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A4B3E58-1166-42AC-BC8E-FB9736ED839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D1671A5-41CE-4628-A49C-5FB415C300F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2744C73-BED2-4E38-9547-31B2414EC62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8296CAB-AD3C-4B60-9F08-2951971758B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F00536E-7547-473C-AA35-6A7A4E71929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1A8255-5B96-44E2-B9C0-A791512B44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324FD-9FC4-4863-BE24-86BA13D3C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4F7307F-0C1C-400C-8878-AF368FAF63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537682-AB69-4691-8EC4-EE7F2282ED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C14893-8EE4-46C5-A43D-47A1A358764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6C8255D-9606-4043-927B-3966CA9D269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C03F086-6718-4216-80D0-EF59744EAAE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D1151-F0BA-44A3-9442-777E51FE0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DBFCA6-88F4-42E8-9C89-263ED6C79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F0EA5-EE7F-475B-91C9-CD771BF0E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66EA1-8B51-4331-BB43-F01679445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2E830-EB12-40EB-AF8B-567213152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86358-0AFE-4BF1-A5F4-5E0536FED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C28E0-812A-4977-9C48-38C3E81F6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1C8AB-A18A-4401-84F9-B23B80D58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A6432-DFEF-4306-95DE-F2F2D049C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76B769-1F82-4A6B-9DF3-FAD7A86954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040D09-11B7-4BFA-B1F6-994F35154B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E19917-0152-4117-9C41-3B4BEDF07E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42CE2D-F9CA-4A8F-85E3-6E05E1D5A5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9D2FE9-547F-4757-A666-A6F0A65BA0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E0EE66-CD07-403C-8860-F38AFD0607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E796D9-ACA9-42A6-85FA-12CB42F597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B6E8E-C322-4F3D-9E96-AA115118E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C717BB-2EF6-4764-8FD3-17C07107F8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D9691A-4AE5-42B5-8772-94C9E76E7D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DEA0BF-92C6-43D0-B5F7-DF77122F19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9F1E2C-EAAB-4E6C-B8E9-72C3D422C1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01F26A-08D7-4C0A-907E-49D6E63A2D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A251F3-79A7-402F-921B-7247657AD8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82A977-F563-4AED-8A4C-88A9561CE3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6CD7A4-4BD7-4841-B0E2-C1845FAA05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5D8B77-B07A-41B2-858B-790B5E383E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A05DB3-58B9-477E-B219-D3BB641018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F9062-A1BA-42CE-B96F-BD02923A1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0B0E1F-5774-4CB4-B60D-AC01A10D26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8753C5-2912-4609-A16D-FA3C84551D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8A3461-B898-487C-B6A1-765401C930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149622-CB5C-4CF2-A4F1-6D6F1882A7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7C1490-617E-47DC-B62D-DDD2BA93C3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3FDEDC-9D9E-41FF-86A1-E07A2332C6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EA54C8-904B-425A-A381-8BC4CF9F62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2B35AB-EDEC-4C54-BB9D-74C36B954C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7F9D31-2961-4670-9E4A-E8BDB98F40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EC7B01-B376-4822-BE8B-39665BC9F2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808DA-AC46-4B19-B03B-910252985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B57AEC-F060-415A-BDFD-F386FCDD47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C09F83-08C9-4E03-93BB-B38092DF38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F0E370-DA36-4EC2-B3B8-BBD0CA2C49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FB0B72-C31E-4442-B7B2-72BC9C09F2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2B6422-4AE3-4EC9-8890-6E20373059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54022F-ED5E-478D-AD35-E81BFC399E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7D0056-47F3-4DDB-8EEF-8FCA117328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D13E6C-5654-4BAF-A3C1-D5A5A8AEAD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24CFAF-BA8C-4712-9924-38C97429B0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3E7828-B3C7-48D3-88A6-206DAAEC46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6A2F6-8235-4734-BCCD-5FF532457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AE5CF4-9C07-4697-B6C0-CFA262C680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D74E88-DC21-44A6-A43B-5803EFA1E5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5383B8-86F5-46AD-B33D-56D2CAC39E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A511EC-B362-4879-8FBC-0D355EF4B5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3E2417-FEBC-442D-89C6-EAFA289BB4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7FAA6A-223B-4703-AC8A-F7DC205526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B0729D-1AAB-469A-9263-2EADBEEE37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019B20-C722-4FDF-A391-85311DCEE4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9E2A25-9067-410C-80D3-426AF9C9DB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902DD3-C61C-419D-BF5E-B005431BD1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1E7B1-8F22-4D09-8AFC-2DB5AB8ED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578A75-848B-4C08-A2B3-749BBC186C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7DBF40-4AB3-47E7-A852-EBDA761F41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51AC97-2175-4625-8EEA-28827C22E4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84C7698-F5A3-47E9-AAFD-F5BE6C41A5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EA4FA07-70ED-4BD3-8E92-9B34C6BA6F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95C0F49-8ED9-443C-BAF2-62EF1AF6A0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06C1BC3-36C1-42BD-889C-1F142F6DB9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3A308C9-6F09-4694-8E81-BBD9C4AD53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AE88426-579F-4555-9A74-0C70482087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2794E22-C7D5-4D85-8F95-44BCF04FCF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DCC54-28FE-4EB5-8532-FE25118F2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DFA8602-0D55-4E1D-AC26-7B74D3B687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ADB91C0-F83A-45ED-9468-D16669679B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88AF139-5907-497F-8DFC-B2ECA4E803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734E2DC-2BDB-4C55-A3B1-8BF31EF704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38BEFE0-0D42-4945-BE3E-2D0370E235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78433C-386F-482E-9A92-B5B8668001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D9DDB6-5EA3-4501-A048-042C5D64DC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2458CC-F330-41FB-90EF-B76375625C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1F37B7-44CF-47C4-8826-15CB16F91B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ACC8D5-E55B-4B9B-9E0D-6323CF7730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B772C-BCDE-440E-A745-F7BE6CA3B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389F0B-B8EF-496F-88FE-3F832D7C7A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50DB86-8319-4BEA-969E-6406DE27D6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CBF598-C949-43C5-8FA8-6E6EB18F69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1F9EC8-9D88-4C6C-B643-12A162DF28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DE0F49-9800-4133-AB56-B3E321061E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622108-8CF1-4B33-86E8-664542D3D2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A25B99-B989-4FC5-834E-0C59C5537AD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B961828-3BB6-4A2F-8252-3E46CFD1B3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DAD85C-B3B2-49C7-968C-8D5177F0D8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993E92-485F-4092-A3C6-81BADAC7A19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FA386-A47B-4EF9-9AC2-409635EA7F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31" name="Group 2"/>
          <p:cNvGrpSpPr/>
          <p:nvPr/>
        </p:nvGrpSpPr>
        <p:grpSpPr>
          <a:xfrm>
            <a:off x="3800520" y="1789200"/>
            <a:ext cx="5348160" cy="5056200"/>
            <a:chOff x="3800520" y="1789200"/>
            <a:chExt cx="5348160" cy="5056200"/>
          </a:xfrm>
        </p:grpSpPr>
        <p:sp>
          <p:nvSpPr>
            <p:cNvPr id="732"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3"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4"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6"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7"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9"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0"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2"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3"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4"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5"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6"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9"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0"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1"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2"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4"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6"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8"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0"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5"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76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68" name="PlaceHolder 3"/>
          <p:cNvSpPr>
            <a:spLocks noGrp="1"/>
          </p:cNvSpPr>
          <p:nvPr>
            <p:ph type="dt" idx="28"/>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PlaceHolder 4"/>
          <p:cNvSpPr>
            <a:spLocks noGrp="1"/>
          </p:cNvSpPr>
          <p:nvPr>
            <p:ph type="ftr" idx="29"/>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0" name="PlaceHolder 5"/>
          <p:cNvSpPr>
            <a:spLocks noGrp="1"/>
          </p:cNvSpPr>
          <p:nvPr>
            <p:ph type="sldNum" idx="30"/>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E44C9-0D01-4292-8E9E-21EC9B349DDA}" type="slidenum">
              <a:rPr b="0" lang="en-AU" sz="1200" spc="-1" strike="noStrike">
                <a:solidFill>
                  <a:srgbClr val="000000"/>
                </a:solidFill>
                <a:latin typeface="Tahoma"/>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7"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0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10" name="PlaceHolder 3"/>
          <p:cNvSpPr>
            <a:spLocks noGrp="1"/>
          </p:cNvSpPr>
          <p:nvPr>
            <p:ph type="ftr" idx="3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1" name="PlaceHolder 4"/>
          <p:cNvSpPr>
            <a:spLocks noGrp="1"/>
          </p:cNvSpPr>
          <p:nvPr>
            <p:ph type="sldNum" idx="3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BB113-428B-4ABA-BAAF-B8DFCC8E1020}" type="slidenum">
              <a:rPr b="0" lang="en-AU"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812" name="PlaceHolder 5"/>
          <p:cNvSpPr>
            <a:spLocks noGrp="1"/>
          </p:cNvSpPr>
          <p:nvPr>
            <p:ph type="dt" idx="3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849" name="Group 2"/>
          <p:cNvGrpSpPr/>
          <p:nvPr/>
        </p:nvGrpSpPr>
        <p:grpSpPr>
          <a:xfrm>
            <a:off x="0" y="0"/>
            <a:ext cx="9140760" cy="6850080"/>
            <a:chOff x="0" y="0"/>
            <a:chExt cx="9140760" cy="6850080"/>
          </a:xfrm>
        </p:grpSpPr>
        <p:grpSp>
          <p:nvGrpSpPr>
            <p:cNvPr id="850" name="Group 3"/>
            <p:cNvGrpSpPr/>
            <p:nvPr/>
          </p:nvGrpSpPr>
          <p:grpSpPr>
            <a:xfrm>
              <a:off x="2743200" y="3540240"/>
              <a:ext cx="6392880" cy="3309840"/>
              <a:chOff x="2743200" y="3540240"/>
              <a:chExt cx="6392880" cy="3309840"/>
            </a:xfrm>
          </p:grpSpPr>
          <p:sp>
            <p:nvSpPr>
              <p:cNvPr id="851"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5"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56"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7"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8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860" name="PlaceHolder 3"/>
          <p:cNvSpPr>
            <a:spLocks noGrp="1"/>
          </p:cNvSpPr>
          <p:nvPr>
            <p:ph type="dt" idx="3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1" name="PlaceHolder 4"/>
          <p:cNvSpPr>
            <a:spLocks noGrp="1"/>
          </p:cNvSpPr>
          <p:nvPr>
            <p:ph type="ftr" idx="3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2" name="PlaceHolder 5"/>
          <p:cNvSpPr>
            <a:spLocks noGrp="1"/>
          </p:cNvSpPr>
          <p:nvPr>
            <p:ph type="sldNum" idx="3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CA239-76CD-4913-A726-0B9CF56918D1}" type="slidenum">
              <a:rPr b="0" lang="en-AU"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16B4E-9840-4F3D-8A6B-566F4E783F37}" type="slidenum">
              <a:rPr b="0" lang="en-AU" sz="1400" spc="-1" strike="noStrike">
                <a:solidFill>
                  <a:srgbClr val="ffffff"/>
                </a:solidFill>
                <a:latin typeface="Times New Roman"/>
                <a:ea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82" name="Group 2"/>
          <p:cNvGrpSpPr/>
          <p:nvPr/>
        </p:nvGrpSpPr>
        <p:grpSpPr>
          <a:xfrm>
            <a:off x="3600" y="1422360"/>
            <a:ext cx="9143640" cy="5435640"/>
            <a:chOff x="3600" y="1422360"/>
            <a:chExt cx="9143640" cy="5435640"/>
          </a:xfrm>
        </p:grpSpPr>
        <p:grpSp>
          <p:nvGrpSpPr>
            <p:cNvPr id="83" name="Group 3"/>
            <p:cNvGrpSpPr/>
            <p:nvPr/>
          </p:nvGrpSpPr>
          <p:grpSpPr>
            <a:xfrm>
              <a:off x="31680" y="1422360"/>
              <a:ext cx="9115560" cy="5435640"/>
              <a:chOff x="31680" y="1422360"/>
              <a:chExt cx="9115560" cy="5435640"/>
            </a:xfrm>
          </p:grpSpPr>
          <p:sp>
            <p:nvSpPr>
              <p:cNvPr id="84"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7"/>
            <p:cNvGrpSpPr/>
            <p:nvPr/>
          </p:nvGrpSpPr>
          <p:grpSpPr>
            <a:xfrm>
              <a:off x="3600" y="3639960"/>
              <a:ext cx="2193840" cy="2694240"/>
              <a:chOff x="3600" y="3639960"/>
              <a:chExt cx="2193840" cy="2694240"/>
            </a:xfrm>
          </p:grpSpPr>
          <p:sp>
            <p:nvSpPr>
              <p:cNvPr id="9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34" name="PlaceHolder 2"/>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4"/>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E25B0-C833-4D41-9740-7B61A8537434}" type="slidenum">
              <a:rPr b="0" lang="en-AU"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237"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74" name="Group 2"/>
          <p:cNvGrpSpPr/>
          <p:nvPr/>
        </p:nvGrpSpPr>
        <p:grpSpPr>
          <a:xfrm>
            <a:off x="318960" y="1828800"/>
            <a:ext cx="8825040" cy="5029200"/>
            <a:chOff x="318960" y="1828800"/>
            <a:chExt cx="8825040" cy="5029200"/>
          </a:xfrm>
        </p:grpSpPr>
        <p:sp>
          <p:nvSpPr>
            <p:cNvPr id="275"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83" name="PlaceHolder 1"/>
          <p:cNvSpPr>
            <a:spLocks noGrp="1"/>
          </p:cNvSpPr>
          <p:nvPr>
            <p:ph type="dt" idx="10"/>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2"/>
          <p:cNvSpPr>
            <a:spLocks noGrp="1"/>
          </p:cNvSpPr>
          <p:nvPr>
            <p:ph type="ftr" idx="11"/>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3"/>
          <p:cNvSpPr>
            <a:spLocks noGrp="1"/>
          </p:cNvSpPr>
          <p:nvPr>
            <p:ph type="sldNum" idx="12"/>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DACE1-DA4D-440F-9374-E90DAAE88739}" type="slidenum">
              <a:rPr b="0" lang="en-AU"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286"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287"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324" name="Group 2"/>
          <p:cNvGrpSpPr/>
          <p:nvPr/>
        </p:nvGrpSpPr>
        <p:grpSpPr>
          <a:xfrm>
            <a:off x="3800520" y="1789200"/>
            <a:ext cx="5348160" cy="5056200"/>
            <a:chOff x="3800520" y="1789200"/>
            <a:chExt cx="5348160" cy="5056200"/>
          </a:xfrm>
        </p:grpSpPr>
        <p:sp>
          <p:nvSpPr>
            <p:cNvPr id="325"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61" name="PlaceHolder 3"/>
          <p:cNvSpPr>
            <a:spLocks noGrp="1"/>
          </p:cNvSpPr>
          <p:nvPr>
            <p:ph type="dt" idx="13"/>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PlaceHolder 4"/>
          <p:cNvSpPr>
            <a:spLocks noGrp="1"/>
          </p:cNvSpPr>
          <p:nvPr>
            <p:ph type="ftr" idx="14"/>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5"/>
          <p:cNvSpPr>
            <a:spLocks noGrp="1"/>
          </p:cNvSpPr>
          <p:nvPr>
            <p:ph type="sldNum" idx="15"/>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6864D-0F60-4ED4-8BDF-1333218F17D6}" type="slidenum">
              <a:rPr b="0" lang="en-AU" sz="1200" spc="-1" strike="noStrike">
                <a:solidFill>
                  <a:srgbClr val="000000"/>
                </a:solidFill>
                <a:latin typeface="Tahoma"/>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0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02"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AC342-73BC-4008-8CB4-75255BD17351}" type="slidenum">
              <a:rPr b="0" lang="en-AU"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1" name="PlaceHolder 1"/>
          <p:cNvSpPr>
            <a:spLocks noGrp="1"/>
          </p:cNvSpPr>
          <p:nvPr>
            <p:ph type="dt" idx="19"/>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PlaceHolder 2"/>
          <p:cNvSpPr>
            <a:spLocks noGrp="1"/>
          </p:cNvSpPr>
          <p:nvPr>
            <p:ph type="sldNum" idx="20"/>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100CC-CC90-4207-B239-D010E92A04B3}" type="slidenum">
              <a:rPr b="0" lang="en-AU"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grpSp>
        <p:nvGrpSpPr>
          <p:cNvPr id="443" name="Group 4"/>
          <p:cNvGrpSpPr/>
          <p:nvPr/>
        </p:nvGrpSpPr>
        <p:grpSpPr>
          <a:xfrm>
            <a:off x="0" y="0"/>
            <a:ext cx="9140760" cy="6850080"/>
            <a:chOff x="0" y="0"/>
            <a:chExt cx="9140760" cy="6850080"/>
          </a:xfrm>
        </p:grpSpPr>
        <p:grpSp>
          <p:nvGrpSpPr>
            <p:cNvPr id="444" name="Group 5"/>
            <p:cNvGrpSpPr/>
            <p:nvPr/>
          </p:nvGrpSpPr>
          <p:grpSpPr>
            <a:xfrm>
              <a:off x="2743200" y="3540240"/>
              <a:ext cx="6392880" cy="3309840"/>
              <a:chOff x="2743200" y="3540240"/>
              <a:chExt cx="6392880" cy="3309840"/>
            </a:xfrm>
          </p:grpSpPr>
          <p:sp>
            <p:nvSpPr>
              <p:cNvPr id="445"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50"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453" name="PlaceHolder 4"/>
          <p:cNvSpPr>
            <a:spLocks noGrp="1"/>
          </p:cNvSpPr>
          <p:nvPr>
            <p:ph type="ftr" idx="21"/>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491" name="Group 2"/>
          <p:cNvGrpSpPr/>
          <p:nvPr/>
        </p:nvGrpSpPr>
        <p:grpSpPr>
          <a:xfrm>
            <a:off x="3600" y="1422360"/>
            <a:ext cx="9143640" cy="5435640"/>
            <a:chOff x="3600" y="1422360"/>
            <a:chExt cx="9143640" cy="5435640"/>
          </a:xfrm>
        </p:grpSpPr>
        <p:grpSp>
          <p:nvGrpSpPr>
            <p:cNvPr id="492" name="Group 3"/>
            <p:cNvGrpSpPr/>
            <p:nvPr/>
          </p:nvGrpSpPr>
          <p:grpSpPr>
            <a:xfrm>
              <a:off x="31680" y="1422360"/>
              <a:ext cx="9115560" cy="5435640"/>
              <a:chOff x="31680" y="1422360"/>
              <a:chExt cx="9115560" cy="5435640"/>
            </a:xfrm>
          </p:grpSpPr>
          <p:sp>
            <p:nvSpPr>
              <p:cNvPr id="493"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06" name="Group 17"/>
            <p:cNvGrpSpPr/>
            <p:nvPr/>
          </p:nvGrpSpPr>
          <p:grpSpPr>
            <a:xfrm>
              <a:off x="3600" y="3639960"/>
              <a:ext cx="2193840" cy="2694240"/>
              <a:chOff x="3600" y="3639960"/>
              <a:chExt cx="2193840" cy="2694240"/>
            </a:xfrm>
          </p:grpSpPr>
          <p:sp>
            <p:nvSpPr>
              <p:cNvPr id="507"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6"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3"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4"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5"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7"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8"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1"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2"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1"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9"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643"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44" name="PlaceHolder 3"/>
          <p:cNvSpPr>
            <a:spLocks noGrp="1"/>
          </p:cNvSpPr>
          <p:nvPr>
            <p:ph type="dt" idx="22"/>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6" name="PlaceHolder 5"/>
          <p:cNvSpPr>
            <a:spLocks noGrp="1"/>
          </p:cNvSpPr>
          <p:nvPr>
            <p:ph type="sldNum" idx="24"/>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B3CF5-7941-4EAD-830B-36C963614736}" type="slidenum">
              <a:rPr b="0" lang="en-AU" sz="1000" spc="-1" strike="noStrike">
                <a:solidFill>
                  <a:srgbClr val="000000"/>
                </a:solidFill>
                <a:latin typeface="Tahoma"/>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83" name="Group 2"/>
          <p:cNvGrpSpPr/>
          <p:nvPr/>
        </p:nvGrpSpPr>
        <p:grpSpPr>
          <a:xfrm>
            <a:off x="318960" y="1752480"/>
            <a:ext cx="8825040" cy="5129280"/>
            <a:chOff x="318960" y="1752480"/>
            <a:chExt cx="8825040" cy="5129280"/>
          </a:xfrm>
        </p:grpSpPr>
        <p:sp>
          <p:nvSpPr>
            <p:cNvPr id="684"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7"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691"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92" name="PlaceHolder 3"/>
          <p:cNvSpPr>
            <a:spLocks noGrp="1"/>
          </p:cNvSpPr>
          <p:nvPr>
            <p:ph type="dt" idx="25"/>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3" name="PlaceHolder 4"/>
          <p:cNvSpPr>
            <a:spLocks noGrp="1"/>
          </p:cNvSpPr>
          <p:nvPr>
            <p:ph type="ftr" idx="26"/>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PlaceHolder 5"/>
          <p:cNvSpPr>
            <a:spLocks noGrp="1"/>
          </p:cNvSpPr>
          <p:nvPr>
            <p:ph type="sldNum" idx="27"/>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2243D-F77C-4485-B947-C54DAF00F7E2}" type="slidenum">
              <a:rPr b="0" lang="en-AU"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Text Box 4"/>
          <p:cNvSpPr/>
          <p:nvPr/>
        </p:nvSpPr>
        <p:spPr>
          <a:xfrm>
            <a:off x="900000" y="620640"/>
            <a:ext cx="7315200" cy="5730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Arial"/>
              </a:rPr>
              <a:t>Introduction to the Nervous System</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Nervous System consists of the brain, spinal cord and thousands of nerves.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Brain and Spinal Cord are collectively known as the Central Nervous System.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Peripheral Nervous System is the collective term for all nerves outside the brain and spinal co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Text Box 4"/>
          <p:cNvSpPr/>
          <p:nvPr/>
        </p:nvSpPr>
        <p:spPr>
          <a:xfrm>
            <a:off x="914400" y="762120"/>
            <a:ext cx="7467480" cy="58795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Functions of the Nervous System</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general function of the nervous system is to allow the organism to respond to stimuli.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Stimulus is any change in the environment of the organism. The nervous system will then induce a response, which may be movement, speech, blinking etc.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dvanced organisms have specialised sense organs, which are designed to react to stimuli.These are often called receptors and are sensitive to one stimuli (e.g. Skin to touch, eyes to light patter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07">
                                            <p:txEl>
                                              <p:pRg st="2" end="2"/>
                                            </p:txEl>
                                          </p:spTgt>
                                        </p:tgtEl>
                                        <p:attrNameLst>
                                          <p:attrName>style.visibility</p:attrName>
                                        </p:attrNameLst>
                                      </p:cBhvr>
                                      <p:to>
                                        <p:strVal val="visible"/>
                                      </p:to>
                                    </p:set>
                                    <p:animEffect filter="blinds(horizontal)" transition="in">
                                      <p:cBhvr additive="repl">
                                        <p:cTn id="7" dur="500"/>
                                        <p:tgtEl>
                                          <p:spTgt spid="907">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07">
                                            <p:txEl>
                                              <p:pRg st="3" end="3"/>
                                            </p:txEl>
                                          </p:spTgt>
                                        </p:tgtEl>
                                        <p:attrNameLst>
                                          <p:attrName>style.visibility</p:attrName>
                                        </p:attrNameLst>
                                      </p:cBhvr>
                                      <p:to>
                                        <p:strVal val="visible"/>
                                      </p:to>
                                    </p:set>
                                    <p:animEffect filter="blinds(horizontal)" transition="in">
                                      <p:cBhvr additive="repl">
                                        <p:cTn id="12" dur="500"/>
                                        <p:tgtEl>
                                          <p:spTgt spid="9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8" name="Picture 4" descr="Nervou1"/>
          <p:cNvPicPr/>
          <p:nvPr/>
        </p:nvPicPr>
        <p:blipFill>
          <a:blip r:embed="rId1"/>
          <a:stretch/>
        </p:blipFill>
        <p:spPr>
          <a:xfrm>
            <a:off x="2679840" y="304920"/>
            <a:ext cx="3830400" cy="632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Text Box 4"/>
          <p:cNvSpPr/>
          <p:nvPr/>
        </p:nvSpPr>
        <p:spPr>
          <a:xfrm>
            <a:off x="1066680" y="990720"/>
            <a:ext cx="7010640" cy="4582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Reacting to Stimuli</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en a receptor is exposed to a stimulus, an electronic impulse is sent to the central nervous system via nerves.The brain then analyses the message and based on experiences / memory, the brain sends out a suitable response back to an effector (muscle) via nerve fibres. When the nerve impulse reaches the effector muscle it contracts according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Text Box 4"/>
          <p:cNvSpPr/>
          <p:nvPr/>
        </p:nvSpPr>
        <p:spPr>
          <a:xfrm>
            <a:off x="990720" y="60948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1314"/>
                </a:solidFill>
                <a:latin typeface="Arial"/>
              </a:rPr>
              <a:t>Neurons or Nerve Cells</a:t>
            </a:r>
            <a:endParaRPr b="0" lang="en-US" sz="2400" spc="-1" strike="noStrike">
              <a:solidFill>
                <a:srgbClr val="000000"/>
              </a:solidFill>
              <a:latin typeface="Arial"/>
            </a:endParaRPr>
          </a:p>
        </p:txBody>
      </p:sp>
      <p:pic>
        <p:nvPicPr>
          <p:cNvPr id="911" name="Picture 5" descr="Nervou2"/>
          <p:cNvPicPr/>
          <p:nvPr/>
        </p:nvPicPr>
        <p:blipFill>
          <a:blip r:embed="rId1"/>
          <a:stretch/>
        </p:blipFill>
        <p:spPr>
          <a:xfrm>
            <a:off x="2978280" y="0"/>
            <a:ext cx="51102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Text Box 4"/>
          <p:cNvSpPr/>
          <p:nvPr/>
        </p:nvSpPr>
        <p:spPr>
          <a:xfrm>
            <a:off x="685800" y="380880"/>
            <a:ext cx="7924680" cy="561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re are three types of nerve cells of which two are important to u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Sensory Neurons</a:t>
            </a:r>
            <a:r>
              <a:rPr b="1" lang="en-US" sz="2400" spc="-1" strike="noStrike">
                <a:solidFill>
                  <a:srgbClr val="000000"/>
                </a:solidFill>
                <a:latin typeface="Arial"/>
                <a:ea typeface="Arial"/>
              </a:rPr>
              <a:t> move from the receptor to the Central Nervous Syste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Motor Neurons</a:t>
            </a:r>
            <a:r>
              <a:rPr b="1" lang="en-US" sz="2400" spc="-1" strike="noStrike">
                <a:solidFill>
                  <a:srgbClr val="000000"/>
                </a:solidFill>
                <a:latin typeface="Arial"/>
                <a:ea typeface="Arial"/>
              </a:rPr>
              <a:t> move from the Central Nervous System to the effector muscl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ovement of the message in neurons is based on Electro-chemical conduction. This is similar to electricity in wires but much slow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side nerve cells the impulse moves quite fast but the message must also move out of one cell and into another. This is slow and is based on charged ions (Atoms with extra or missing electr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Text Box 4"/>
          <p:cNvSpPr/>
          <p:nvPr/>
        </p:nvSpPr>
        <p:spPr>
          <a:xfrm>
            <a:off x="685800" y="1752480"/>
            <a:ext cx="792468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is is why elements like Chlorine, Magnesium, Sodium and Potassium are important in the diet of animals. When these elements are not available, the effector muscles will not react as required and will cramp.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For example, low Mg with cause muscle spasm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Text Box 4"/>
          <p:cNvSpPr/>
          <p:nvPr/>
        </p:nvSpPr>
        <p:spPr>
          <a:xfrm>
            <a:off x="611280" y="436680"/>
            <a:ext cx="8001000" cy="6463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The Reflex Arc</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 reflex is the simplest form of response to a stimulus. The most common reflex is the knee jerk. In a reflex reaction, the response occurs before the message reaches the brain, or the message may not reach the brain at all.</a:t>
            </a:r>
            <a:r>
              <a:rPr b="1" lang="en-US" sz="2400" spc="-1" strike="noStrike">
                <a:solidFill>
                  <a:srgbClr val="00117c"/>
                </a:solidFill>
                <a:latin typeface="Arial"/>
                <a:ea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is is because of the reflex arc!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receptor cell sends an impulse through a sensory neuron to the spinal cord. The message doesn’t go directly to the brain but to the cell body of a motor neuron and then to the muscle. The muscle contrac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brain may get the message soon after. In reflexes, the impulse is not related to stored information in the brain before the respon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5" name="Picture 4" descr="Nervou3"/>
          <p:cNvPicPr/>
          <p:nvPr/>
        </p:nvPicPr>
        <p:blipFill>
          <a:blip r:embed="rId1"/>
          <a:stretch/>
        </p:blipFill>
        <p:spPr>
          <a:xfrm>
            <a:off x="380880" y="939960"/>
            <a:ext cx="8382240" cy="4976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4:46:38Z</dcterms:created>
  <dc:creator>DE&amp;T user</dc:creator>
  <dc:description/>
  <dc:language>en-US</dc:language>
  <cp:lastModifiedBy>Lyn Clarkson</cp:lastModifiedBy>
  <dcterms:modified xsi:type="dcterms:W3CDTF">2008-07-23T03:04:19Z</dcterms:modified>
  <cp:revision>5</cp:revision>
  <dc:subject/>
  <dc:title>PowerPoint Presentation</dc:title>
</cp:coreProperties>
</file>